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5B2E-A32A-4B0E-90AA-00B729CD1056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5908-9A14-4DDF-96BA-D979FA65E02F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7993-DC77-477A-9083-588D505AF9B1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DC3B-4090-452F-B801-ABCA852AD82A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FFE8-4390-48C3-881F-977271FFC3AE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62D8-9961-421B-AC4B-2478B7D14BD7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239A-D02D-4D01-91C4-0B8F730FA647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72ED-BC20-4486-A4CA-9CD21FB8B5A8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DF55-F899-42DB-BD37-C3EA179377A2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105F-CA85-427C-9B8E-468B3CA5B1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D5C6-8088-44D7-A5D8-955A59BDA227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75DF-F82F-469E-AD97-EF69ED0B7094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E653-A44E-4694-9E51-FAAA4A1C5BD7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0E8E-6324-44A4-A00D-273791B58668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6C8F-F97D-42A1-9705-BFA4C06D538D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3E96-38B1-419B-B8E4-5D92AAC50512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11A5-C834-4A83-AF30-7053C248F296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BA0C-40C7-4B82-85A1-1D874FCA2256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ED4-4343-4788-A56E-69EB690D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0849-D8E2-422B-B7ED-6AE342BE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5A6-20D2-449A-B890-D9B13205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BC9-EFAC-46DE-915B-76144B49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337D-FF94-40D9-A0A9-CAF0B4DA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3543-28B1-48F0-9B73-AF2CFB64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3E47-C571-4ABE-959A-0A722DA6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0645-7891-4735-AE1B-59B486B8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7BD5-7DAC-4B81-8FE3-C7D12DB6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3C00-EECA-4691-A105-A408E213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B797-EECF-4868-8EDA-C3956217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019-5A54-4C22-B0BE-A9B6F38E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6704-D051-4BCC-8905-422782E0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3F4B-94A2-4F76-81C6-A70E20B2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9BB7-AA50-4C37-87CB-BD630F8E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AC63-78D2-4E20-82A8-316957A5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0EC9-9D9B-40AE-B882-D0956A03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4D0-D27B-483A-8F5F-06BDF310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6783-9C90-466B-B2E9-C965B1FA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85E-2425-4D1F-8C7E-84D26E51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942-98A8-48D2-A09D-8B4586B9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035-A0F7-4582-99AE-6E495C7D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F31-301E-44E0-A62E-2D050E10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D9D-47DC-4E6A-AF1E-F020BEFF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320D-EB0B-4E85-90B1-73E44C7D994C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77B8-4E21-421E-855C-47FDF878A9B7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omic Sans MS"/>
              </a:rPr>
              <a:t>DEFINIENDO EDUCAC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ra. Yolanda Ramírez Villacor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6"/>
          <p:cNvSpPr/>
          <p:nvPr/>
        </p:nvSpPr>
        <p:spPr>
          <a:xfrm>
            <a:off x="1763640" y="3500280"/>
            <a:ext cx="6912000" cy="273708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6870600" cy="106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mic Sans MS"/>
              </a:rPr>
              <a:t>FUNCIONES INDIVIDUALES DE LA EDUCAC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75582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DESARROLLO INTEGRAL DE LA PERSONALIDAD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SOCIALIZACION DEL INDIVIDUO (ADAPTACION AL MEDIO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ENRIQUECIMIENTO CON CONOCIMIENTOS, HABILIDADES Y BUENAS COSTUMBR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763640" y="3645000"/>
            <a:ext cx="6624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omic Sans MS"/>
              </a:rPr>
              <a:t>LA EDUCACION MEJORA EN LOS INDIVIDUOS SU DESTREZA INTELECTUAL, SU PODER DE RAZONAMIENTO Y DE CRITICA, SUS ACTITUDES Y MOTIVACIONES, SU CAPACIDAD DE CREATIVIDAD E INNOVACION, SU SENTIDO DE RESPONSABILIDAD SOCIAL Y SU COMPRENSION DEL MUND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79930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FUNCIONES SOCIALES DE LA EDUCAC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909360"/>
            <a:ext cx="835344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27009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270096"/>
                </a:solidFill>
                <a:latin typeface="Comic Sans MS"/>
              </a:rPr>
              <a:t>FUNCION DE ADAPTACION DEL INDIVIDUO A LAS EXIGENCIAS DEL GRUPO SOCIAL: SOCIALIZACION DEL INDIVIDUO.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FUNCION DE ASEGURAR UNA CONTINUIDAD SOC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s-ES_tradnl" sz="2000" spc="-1" strike="noStrike">
                <a:solidFill>
                  <a:srgbClr val="000000"/>
                </a:solidFill>
                <a:latin typeface="Comic Sans MS"/>
              </a:rPr>
              <a:t>FUNCION DE INTRODUCIR EL CAMBIO SOC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APACITACION PROFESIONAL DE LOS INDIVIDU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s-ES_tradnl" sz="2000" spc="-1" strike="noStrike">
                <a:solidFill>
                  <a:srgbClr val="000000"/>
                </a:solidFill>
                <a:latin typeface="Comic Sans MS"/>
              </a:rPr>
              <a:t>FUNCION ECONOMICA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FUNCION POLIT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s-ES_tradnl" sz="2000" spc="-1" strike="noStrike">
                <a:solidFill>
                  <a:srgbClr val="000000"/>
                </a:solidFill>
                <a:latin typeface="Comic Sans MS"/>
              </a:rPr>
              <a:t>FUNCION DE CONTROL SOC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FUNCION DE HOMOGENIZACION Y DE SELECCION SOC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270096"/>
                </a:solidFill>
                <a:latin typeface="Comic Sans MS"/>
              </a:rPr>
              <a:t>LA EDUCACION PROMUEVE EL PROGRESO HUMANO DE LA SOCIEDAD: LA EDUCACION AL PERFECCIONAR AL INDIVIDUO, PERFECCIONA AL GRUPO. LA EDUCACION LLEVARA A LA CONSTRUCCION DE LA SOCIEDAD PERFECTA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4" descr=""/>
          <p:cNvPicPr/>
          <p:nvPr/>
        </p:nvPicPr>
        <p:blipFill>
          <a:blip r:embed="rId1"/>
          <a:stretch/>
        </p:blipFill>
        <p:spPr>
          <a:xfrm>
            <a:off x="658800" y="712800"/>
            <a:ext cx="79916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14 Rectángulo"/>
          <p:cNvSpPr/>
          <p:nvPr/>
        </p:nvSpPr>
        <p:spPr>
          <a:xfrm>
            <a:off x="2000160" y="5715000"/>
            <a:ext cx="2643120" cy="85716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4427640" y="1341360"/>
            <a:ext cx="3240000" cy="115092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684360" y="1341360"/>
            <a:ext cx="3240000" cy="115092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35388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Comic Sans MS"/>
              </a:rPr>
              <a:t>TIPOS DE EDUCAC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294984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omic Sans MS"/>
              </a:rPr>
              <a:t>EDUCACION NATUR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4500720" y="1413000"/>
            <a:ext cx="3311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Comic Sans MS"/>
              </a:rPr>
              <a:t>EDUCACION DIRIGI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684360" y="328464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omic Sans MS"/>
              </a:rPr>
              <a:t>Educación directa, en contacto con la naturaleza, que es el libro de la enseñanza: aprender-hacien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148360" y="2925720"/>
            <a:ext cx="388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omic Sans MS"/>
              </a:rPr>
              <a:t>Educación formal o escolariza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364000" y="4076640"/>
            <a:ext cx="3311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omic Sans MS"/>
              </a:rPr>
              <a:t>Educación No form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2000160" y="5632560"/>
            <a:ext cx="30243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omic Sans MS"/>
              </a:rPr>
              <a:t>Educación Inform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2050920" y="2565360"/>
            <a:ext cx="5050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Freeform 15"/>
          <p:cNvSpPr/>
          <p:nvPr/>
        </p:nvSpPr>
        <p:spPr>
          <a:xfrm>
            <a:off x="4643280" y="2492280"/>
            <a:ext cx="406440" cy="7923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Freeform 16"/>
          <p:cNvSpPr/>
          <p:nvPr/>
        </p:nvSpPr>
        <p:spPr>
          <a:xfrm>
            <a:off x="4572000" y="2637000"/>
            <a:ext cx="863640" cy="17287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16112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Comic Sans MS"/>
              </a:rPr>
              <a:t>EDUCACION ESCOLARIZA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52640" y="1828800"/>
            <a:ext cx="769608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Se maneja con los siguientes componen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751"/>
              </a:spcBef>
              <a:spcAft>
                <a:spcPts val="1049"/>
              </a:spcAft>
              <a:buClr>
                <a:srgbClr val="170058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170058"/>
                </a:solidFill>
                <a:latin typeface="Comic Sans MS"/>
              </a:rPr>
              <a:t>Contenido educativo</a:t>
            </a: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 (planes y programas de estudios o de enseñanza, currícul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751"/>
              </a:spcBef>
              <a:spcAft>
                <a:spcPts val="1049"/>
              </a:spcAft>
              <a:buClr>
                <a:srgbClr val="170058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170058"/>
                </a:solidFill>
                <a:latin typeface="Comic Sans MS"/>
              </a:rPr>
              <a:t>Educando</a:t>
            </a: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 (alumno, estudian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751"/>
              </a:spcBef>
              <a:spcAft>
                <a:spcPts val="1049"/>
              </a:spcAft>
              <a:buClr>
                <a:srgbClr val="170058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170058"/>
                </a:solidFill>
                <a:latin typeface="Comic Sans MS"/>
              </a:rPr>
              <a:t>Educador </a:t>
            </a: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(incluye el método… puede denominarse maestro, profesor, catedrático, normalista, etc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751"/>
              </a:spcBef>
              <a:spcAft>
                <a:spcPts val="1049"/>
              </a:spcAft>
              <a:buClr>
                <a:srgbClr val="170058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170058"/>
                </a:solidFill>
                <a:latin typeface="Comic Sans MS"/>
              </a:rPr>
              <a:t>Institución</a:t>
            </a: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 (escuela, que incluye dirección y administración y puede contar con personal no docente y con recursos materiales y financiero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Comic Sans MS"/>
              </a:rPr>
              <a:t>EDUCACION NO FORMA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7760" y="1197000"/>
            <a:ext cx="78422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Comic Sans MS"/>
              </a:rPr>
              <a:t>Mantiene los mismos componentes de la anterior, pero en forma distinta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Un contenido educativo que no se denomina planes y programa de estudios o curriculum, pero existe y es asimilad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Un sujeto que es educado y que no necesariamente se llama alumno y no está “matriculado” en escuel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Un sujeto que educa y que no necesariamente se llama profesor aunque de modo frecuente se le dice maestro o profeso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Una o varias instituciones, organizaciones, ambientes o lugares que no son escuelas, que no son instituciones especialmente montadas para educar y enseñar pero que sirven a fines educativos, que pueden contar con recursos materiales, económicos o financieros, poco o mucho, propio y/o ajen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Comic Sans MS"/>
              </a:rPr>
              <a:t>EDUCACION INFORMA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1800" y="1716120"/>
            <a:ext cx="748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No responde a un programa o plan de estudios, responde a necesidades de conocimien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No es sistemática, no está calendarizad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Todos enseñan y todos aprend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La evaluación del aprendizaje es práctica y vivenc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Está presente en todo momento y a lo largo de toda la vid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3 Rectángulo" descr=""/>
          <p:cNvPicPr/>
          <p:nvPr/>
        </p:nvPicPr>
        <p:blipFill>
          <a:blip r:embed="rId1"/>
          <a:stretch/>
        </p:blipFill>
        <p:spPr>
          <a:xfrm>
            <a:off x="1066680" y="1420920"/>
            <a:ext cx="6066000" cy="3475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mains-05"/>
          <p:cNvPicPr/>
          <p:nvPr/>
        </p:nvPicPr>
        <p:blipFill>
          <a:blip r:embed="rId2"/>
          <a:stretch/>
        </p:blipFill>
        <p:spPr>
          <a:xfrm>
            <a:off x="5786280" y="4000680"/>
            <a:ext cx="2286000" cy="2071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19928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Comic Sans MS"/>
              </a:rPr>
              <a:t>ALGUNAS DEFINICIONES “populares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49"/>
              </a:spcAft>
              <a:buClr>
                <a:srgbClr val="000000"/>
              </a:buClr>
              <a:buFont typeface="Web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Educación es ir a la escuela para aprender y, así, ganarse la vida (obrer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49"/>
              </a:spcAft>
              <a:buClr>
                <a:srgbClr val="000000"/>
              </a:buClr>
              <a:buFont typeface="Web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Educación es la formación del ser humano de acuerdo con sus posibilidades económicas con el fin de hacerse entender en la sociedad (emplead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49"/>
              </a:spcAft>
              <a:buClr>
                <a:srgbClr val="000000"/>
              </a:buClr>
              <a:buFont typeface="Web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Es la base fundamental a la que se someten los hombres para desarrollarse material y espiritualmente y poder desempeñar cualquier cargo, oficio u ocupación (profes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49"/>
              </a:spcAft>
              <a:buClr>
                <a:srgbClr val="000000"/>
              </a:buClr>
              <a:buFont typeface="Web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Es una ciencia que se ocupa del estudio de la formación integral del educando o del individuo en general (catedrátic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19928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Comic Sans MS"/>
              </a:rPr>
              <a:t>ALGUNAS DEFINICIONES “populares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049"/>
              </a:spcAft>
              <a:buClr>
                <a:srgbClr val="000000"/>
              </a:buClr>
              <a:buFont typeface="Web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Educación es el proceso mediante el cual se da a los educandos los valores de la cultura para su realización plena … es el proceso mediante el cual se prepara al hombre para realizar una vida libre (profesor y catedrátic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049"/>
              </a:spcAft>
              <a:buClr>
                <a:srgbClr val="000000"/>
              </a:buClr>
              <a:buFont typeface="Web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Educación es adquirir una cultura para así poder hacer frente a la vida (funcionari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049"/>
              </a:spcAft>
              <a:buClr>
                <a:srgbClr val="000000"/>
              </a:buClr>
              <a:buFont typeface="Web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Es un instrumento de la clase social mediante el cual se impone determinada ideología de acuerdo con los conceptos culturales y morales de la clase que domina una sociedad (estudiante de educación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2"/>
          <p:cNvSpPr/>
          <p:nvPr/>
        </p:nvSpPr>
        <p:spPr>
          <a:xfrm>
            <a:off x="3419640" y="3789360"/>
            <a:ext cx="5046480" cy="2808360"/>
          </a:xfrm>
          <a:prstGeom prst="roundRect">
            <a:avLst>
              <a:gd name="adj" fmla="val 16667"/>
            </a:avLst>
          </a:prstGeom>
          <a:blipFill rotWithShape="0">
            <a:blip r:embed="rId1">
              <a:alphaModFix amt="44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276720" y="476280"/>
            <a:ext cx="5094000" cy="2952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247680" y="2565360"/>
            <a:ext cx="2328840" cy="168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324000" y="2565360"/>
            <a:ext cx="222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DUCAR DERIVA DE DOS VERBOS LATIN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3419640" y="692280"/>
            <a:ext cx="489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DUCAR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QUE SIGNIFICA ALIMENTAR, CRIAR, NUTRIR. EN ESTE SENTIDO, EDUCACION ETIMOLOGICAMENTE SE REFIERE A LA ADAPTACION DEL HOMBRE, DONDE TIENE MAYOR IMPORTANCIA LA INFLUENCIA DE LA SOCIEDAD SOBRE EL INDIVIDU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3419640" y="3994200"/>
            <a:ext cx="50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270096"/>
                </a:solidFill>
                <a:latin typeface="Arial"/>
              </a:rPr>
              <a:t>EX-DUCERE</a:t>
            </a:r>
            <a:r>
              <a:rPr b="0" lang="es-ES_tradnl" sz="2000" spc="-1" strike="noStrike">
                <a:solidFill>
                  <a:srgbClr val="270096"/>
                </a:solidFill>
                <a:latin typeface="Arial"/>
              </a:rPr>
              <a:t>: </a:t>
            </a:r>
            <a:r>
              <a:rPr b="1" i="1" lang="es-ES_tradnl" sz="2000" spc="-1" strike="noStrike">
                <a:solidFill>
                  <a:srgbClr val="270096"/>
                </a:solidFill>
                <a:latin typeface="Arial"/>
              </a:rPr>
              <a:t>QUE SIGNIFICA DESARROLLAR, CRECER. EN ESTE SENTIDO, EDUCACION SE REFIERE AL PROCESO DE CREACION, DE PERSONALIZACION INDIVIDUALISTA, DONDE SE BUSCA QUE EL INDIVIDUO REALICE INNOVACIONES HISTORICO-SOCIA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2627280" y="2370240"/>
            <a:ext cx="33516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2627280" y="3789360"/>
            <a:ext cx="50472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59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TROS CONCEPTOS DE EDUCAC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4582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ESTALOZZI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270096"/>
                </a:solidFill>
                <a:latin typeface="Comic Sans MS"/>
              </a:rPr>
              <a:t>la educación es el desarrollo natural, progresivo y sistemático de todas las facultades del homb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. KANT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educación tiene por finalidad el desarrollo del hombre para su perfecció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LATON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Comic Sans MS"/>
              </a:rPr>
              <a:t>la educación tiene por finalidad dar al cuerpo y al alma toda la belleza y perfección posi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SPENCER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educación es la preparación para la vida, forma al hombre tanto en su cuerpo como en su carácter para que sirva a la familia y a la socieda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DURKHEIM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</a:rPr>
              <a:t>la educación es la acción de los adultos sobre los jóvenes, de las generaciones ya formadas sobre las que aun no lo están para prepararlos para la vida soci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Comic Sans MS"/>
              </a:rPr>
              <a:t>EDUCACION: parte de la realidad objetiv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003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omic Sans MS"/>
              </a:rPr>
              <a:t>La educación es quehacer humano, es actividad concreta del hombre concreto y, por ser así, es eminentemente soci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Comic Sans MS"/>
              </a:rPr>
              <a:t>La historia de la educación es parte de la historia del hombre, del proceso de desarrollo de la sociedad, real y concret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611280" y="762120"/>
            <a:ext cx="784836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70096"/>
              </a:buClr>
              <a:buSzPct val="1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N TERMINOS GENERALES EDUCACION SE REFIERE A LA ACCION ORIENTADA A DESARROLLAR LAS FACULTADES FISICAS, ESPIRITUALES E INTELECTUALES DE LOS INDIVIDUOS MOLDEANDO SU PERSONALIDAD PARA SU INTEGRACION A LA SOCIEDAD; PERO, TAMBIEN PARA PROMOVER EL CAMBIO Y LA INNOVAC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270096"/>
              </a:buClr>
              <a:buSzPct val="1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270096"/>
              </a:buClr>
              <a:buSzPct val="160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170058"/>
                </a:solidFill>
                <a:latin typeface="Comic Sans MS"/>
              </a:rPr>
              <a:t>EL OBJETIVO PRINCIPAL DE LA EDUCACION ES LA TRANSMISION DEL CONTENIDO CULTURAL DE LA SOCIEDAD Y LA FORMA COMO SE TRANSMITE ESTA DETERMINADA POR LOS PATRONES CULTURALES DEL GRUPO SOCI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270096"/>
              </a:buClr>
              <a:buSzPct val="1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270096"/>
              </a:buClr>
              <a:buSzPct val="1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SISTEMA EDUCATIVO RESPONDE A LAS PARTICULARIDADES DE LAS CONDICIONES ECONOMICAS Y SOCIALES EN DONDE SE DESARROLL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270096"/>
              </a:buClr>
              <a:buSzPct val="1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4"/>
          <p:cNvSpPr/>
          <p:nvPr/>
        </p:nvSpPr>
        <p:spPr>
          <a:xfrm>
            <a:off x="4427640" y="4437000"/>
            <a:ext cx="3673440" cy="1656000"/>
          </a:xfrm>
          <a:prstGeom prst="horizontalScrol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13"/>
          <p:cNvSpPr/>
          <p:nvPr/>
        </p:nvSpPr>
        <p:spPr>
          <a:xfrm>
            <a:off x="4356000" y="2565360"/>
            <a:ext cx="4176720" cy="1440000"/>
          </a:xfrm>
          <a:prstGeom prst="horizontalScrol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4211640" y="476280"/>
            <a:ext cx="3673440" cy="1224000"/>
          </a:xfrm>
          <a:prstGeom prst="horizontalScrol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718160" y="4689360"/>
            <a:ext cx="34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ARANTIZA LA SOCIALIZACION DE LOS INDIVIDU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611280" y="206064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50920" y="29941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DUCAC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356000" y="69228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CESO QUE DURA TODA LA VI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500720" y="2822400"/>
            <a:ext cx="41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BUSCA LA FORMACION INTEGRAL DEL HOMB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AutoShape 9"/>
          <p:cNvSpPr/>
          <p:nvPr/>
        </p:nvSpPr>
        <p:spPr>
          <a:xfrm rot="18675600">
            <a:off x="2446920" y="1735560"/>
            <a:ext cx="2016360" cy="360360"/>
          </a:xfrm>
          <a:custGeom>
            <a:avLst/>
            <a:gdLst>
              <a:gd name="textAreaLeft" fmla="*/ 252000 w 2016360"/>
              <a:gd name="textAreaRight" fmla="*/ 1764360 w 201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"/>
          <p:cNvSpPr/>
          <p:nvPr/>
        </p:nvSpPr>
        <p:spPr>
          <a:xfrm rot="2803800">
            <a:off x="2591280" y="4328280"/>
            <a:ext cx="2016360" cy="360360"/>
          </a:xfrm>
          <a:custGeom>
            <a:avLst/>
            <a:gdLst>
              <a:gd name="textAreaLeft" fmla="*/ 252000 w 2016360"/>
              <a:gd name="textAreaRight" fmla="*/ 1764360 w 201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3059280" y="3213000"/>
            <a:ext cx="1081080" cy="21600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324000" y="692280"/>
            <a:ext cx="806436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270096"/>
                </a:solidFill>
                <a:latin typeface="Eurostile"/>
              </a:rPr>
              <a:t>HAY UNA ESTRECHA RELACION ENTRE SOCIEDA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270096"/>
                </a:solidFill>
                <a:latin typeface="Eurostile"/>
              </a:rPr>
              <a:t>Y EDUCACION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Eurostile"/>
              </a:rPr>
              <a:t>COMO DICE RENE HUBERT EN SU OBRA "TRATADO DE PEDAGOGIA GENERAL" (BUENOS AIRES, 1963)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just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 u="sng">
                <a:solidFill>
                  <a:srgbClr val="000000"/>
                </a:solidFill>
                <a:uFillTx/>
                <a:latin typeface="Eurostile"/>
              </a:rPr>
              <a:t>NO HAY SOCIEDAD SIN EDUCACION, NI EDUCACION SIN SOCIEDA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Eurostile"/>
              </a:rPr>
              <a:t>O EN PALABRAS DE NASSIF, EN SU OBRA PEDAGOGIA GENERAL (BUENOS AIRES, 1958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just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 u="sng">
                <a:solidFill>
                  <a:srgbClr val="270096"/>
                </a:solidFill>
                <a:uFillTx/>
                <a:latin typeface="Eurostile"/>
              </a:rPr>
              <a:t>LA EDUCACION ES SOCIALIZADORA Y LA SOCIEDAD ES EDUCADORA</a:t>
            </a:r>
            <a:r>
              <a:rPr b="0" lang="es-ES_tradnl" sz="26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22:08:39Z</dcterms:created>
  <dc:creator>Jaime Nalvarte Armas</dc:creator>
  <dc:description/>
  <dc:language>en-US</dc:language>
  <cp:lastModifiedBy>Yolita</cp:lastModifiedBy>
  <dcterms:modified xsi:type="dcterms:W3CDTF">2009-05-16T13:58:29Z</dcterms:modified>
  <cp:revision>46</cp:revision>
  <dc:subject/>
  <dc:title>DEFINIENDO EDUCACION</dc:title>
</cp:coreProperties>
</file>